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wmf" ContentType="image/x-wmf"/>
  <Override PartName="/ppt/media/image16.png" ContentType="image/png"/>
  <Override PartName="/ppt/media/image15.png" ContentType="image/png"/>
  <Override PartName="/ppt/media/image29.png" ContentType="image/png"/>
  <Override PartName="/ppt/media/image2.wmf" ContentType="image/x-wmf"/>
  <Override PartName="/ppt/media/image14.wmf" ContentType="image/x-wmf"/>
  <Override PartName="/ppt/media/image1.jpeg" ContentType="image/jpeg"/>
  <Override PartName="/ppt/media/image25.wmf" ContentType="image/x-wmf"/>
  <Override PartName="/ppt/media/image32.png" ContentType="image/png"/>
  <Override PartName="/ppt/media/image34.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38.wmf" ContentType="image/x-wmf"/>
  <Override PartName="/ppt/media/image31.png" ContentType="image/png"/>
  <Override PartName="/ppt/media/image42.wmf" ContentType="image/x-wmf"/>
  <Override PartName="/ppt/media/image43.png" ContentType="image/png"/>
  <Override PartName="/ppt/media/image3.wmf" ContentType="image/x-wmf"/>
  <Override PartName="/ppt/media/image33.png" ContentType="image/png"/>
  <Override PartName="/ppt/media/image8.png" ContentType="image/png"/>
  <Override PartName="/ppt/media/image44.wmf" ContentType="image/x-wmf"/>
  <Override PartName="/ppt/media/image45.wmf" ContentType="image/x-wmf"/>
  <Override PartName="/ppt/media/image10.wmf" ContentType="image/x-wmf"/>
  <Override PartName="/ppt/media/image30.png" ContentType="image/png"/>
  <Override PartName="/ppt/media/image13.wmf" ContentType="image/x-wmf"/>
  <Override PartName="/ppt/media/image28.png" ContentType="image/png"/>
  <Override PartName="/ppt/media/image9.wmf" ContentType="image/x-wmf"/>
  <Override PartName="/ppt/media/image41.png" ContentType="image/png"/>
  <Override PartName="/ppt/media/image39.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A46B00-2043-4638-B880-27144A785CF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senses you can have the audience use, the more effective your communication will be. If you lecture, the only sense the audience will be using is hearing. If you lecture and use audiovisual aids, the audience will use their senses for sight and sound. If you use a demonstration, the audience will see, hear, touch, and possibly even smell and tas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the use of ai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visual aids only when you are talking about them</a:t>
            </a:r>
            <a:r>
              <a:rPr b="0" lang="en-US" sz="1200" spc="-1" strike="noStrike">
                <a:solidFill>
                  <a:srgbClr val="000000"/>
                </a:solidFill>
                <a:latin typeface="Arial"/>
              </a:rPr>
              <a:t>. Visual aids compete with you for attention. When you use a visual aid to help make a point, you expect the audience’s attention to be directed to the visual aid. Therefore, after the point is made, the audience’s attention should focus back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about the visual aid while you are showing it</a:t>
            </a:r>
            <a:r>
              <a:rPr b="0" lang="en-US" sz="1200" spc="-1" strike="noStrike">
                <a:solidFill>
                  <a:srgbClr val="000000"/>
                </a:solidFill>
                <a:latin typeface="Arial"/>
              </a:rPr>
              <a:t>. A visual aid is not meant to stand alone. You need to explain to the audience what to look for and describe the visual. Once you have done this, if possible, remove it from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to the audience, not to the visual aid</a:t>
            </a:r>
            <a:r>
              <a:rPr b="0" lang="en-US" sz="1200" spc="-1" strike="noStrike">
                <a:solidFill>
                  <a:srgbClr val="000000"/>
                </a:solidFill>
                <a:latin typeface="Arial"/>
              </a:rPr>
              <a:t>. One of the most common problems encountered while using audiovisual aids is looking and talking to the visual aid, rather than the audience. Be certain that you know the content of the visual aid well enough so that you don’t have to study it while you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sure that everyone in the audience can see and hear the audiovisual aid</a:t>
            </a:r>
            <a:r>
              <a:rPr b="0" lang="en-US" sz="1200" spc="-1" strike="noStrike">
                <a:solidFill>
                  <a:srgbClr val="000000"/>
                </a:solidFill>
                <a:latin typeface="Arial"/>
              </a:rPr>
              <a:t>. Remember that the purpose of an audiovisual aid is to facilitate understanding. Therefore, it is essential that everyone in the audience is able to see and hear the aid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ass objects around in the audience while you are speaking</a:t>
            </a:r>
            <a:r>
              <a:rPr b="0" lang="en-US" sz="1200" spc="-1" strike="noStrike">
                <a:solidFill>
                  <a:srgbClr val="000000"/>
                </a:solidFill>
                <a:latin typeface="Arial"/>
              </a:rPr>
              <a:t>. It is tempting for a speaker to pass objects around in the audience while they are speaking. This should not be done because it distracts the audience and prevents one or more people from paying attention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using the audiovisual aid before using it in a presentation. </a:t>
            </a:r>
            <a:r>
              <a:rPr b="0" lang="en-US" sz="1200" spc="-1" strike="noStrike">
                <a:solidFill>
                  <a:srgbClr val="000000"/>
                </a:solidFill>
                <a:latin typeface="Arial"/>
              </a:rPr>
              <a:t>One of the common pitfalls in using visual aids is assuming that you can effectively use the necessary equipment.  Even though most visuals are easy to use and most audiovisual equipment is relatively easy to operate, don’t underestimate the problems that can arise. Practice is a mu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overuse audiovisual aids</a:t>
            </a:r>
            <a:r>
              <a:rPr b="0" lang="en-US" sz="1000" spc="-1" strike="noStrike">
                <a:solidFill>
                  <a:srgbClr val="000000"/>
                </a:solidFill>
                <a:latin typeface="Arial"/>
              </a:rPr>
              <a:t>. Don’t feel as though every single point to be made has to be reinforced with audiovisual aids. An audience may become saturated with them and from that point on their use can be counterproduct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ordinate audio and visual</a:t>
            </a:r>
            <a:r>
              <a:rPr b="0" lang="en-US" sz="1000" spc="-1" strike="noStrike">
                <a:solidFill>
                  <a:srgbClr val="000000"/>
                </a:solidFill>
                <a:latin typeface="Arial"/>
              </a:rPr>
              <a:t>. This takes some practice, but it is critical to the success of your presentation. This will give the message maximum impact and help your audience absorb the information because they are hearing and s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the revelation technique</a:t>
            </a:r>
            <a:r>
              <a:rPr b="0" lang="en-US" sz="1000" spc="-1" strike="noStrike">
                <a:solidFill>
                  <a:srgbClr val="000000"/>
                </a:solidFill>
                <a:latin typeface="Arial"/>
              </a:rPr>
              <a:t>. This is important when using word slides. If you show the audience a slide with six lines of type, they will want to read everything on the slide at once. Thus, they are not paying attention to what you are saying. Gradually reveal the information on the slide by showing only one line at a time as it is discu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can ruin your credibility faster than fumbling around with your visual aids. Always practice, so you can use them with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put all your time and effort into your visuals at the risk of ignoring the fact that you need to develop and practice your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eye contact on the audience, and avoid the temptation to constantly look at or read from your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make the audience wait for the important part. Start with a tape at the right point and make sure the tape is the highest quality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udio visual aids are used in the correct manner, they can be a great tool, but remember that the human body probably represents the most important and frequently used audiovisual aid of all. During your presentation you should use gestures, facial expressions, and other body movements that are effective in helping you get your message across to your audience.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ING VISUAL AI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audiovisuals and their importance has been discussed. Good message design is also important. Over the years, educators and communicators have found several design principles that we can use to enhance visuals. These major principles ar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pli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sound obvious, but simplicity with creativity is the key. As a general rule, a visual should have: one idea; no more than eight items; about six words per line; mixed upper and lower case letters; simple clean typefaces; and be big enough to read easily. Be sure to avoid useless decoration, eliminate fancy borders, and use artwork selectively. Also, leave a lot of white space. Audiences may have difficulty reading, comprehending, and recalling more than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mo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ments of the visual should fit together in a harmonious relationship. Distracting visual elements might include color, layout, type style, visual symbols, or background. Only one or two type styles should be used during a presentation unless they are used for special eff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color, arrows, underlining, and bold type are ways to emphasize the major elements in a visual. To attract attention, extreme colors of red and blue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ttering on the visual must be legible. When the content suggests a list, use numbers or bullets. Legibility can also be improved by mixing upper and lower case lett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ando BT"/>
              </a:rPr>
              <a:t>HOW QUICKLY CAN YOU READ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QUICKLY CAN YOU READ THI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visual arranged in a pattern that is easy for the viewer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in a manner that is interesting but not distr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so they form a singl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urpose of the visual obvious to the audience for whom the message is intended?  Divide complex information into smaller units.  Important information should be presented more than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EPARATION AND USE OF TRANSPARENCIES/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urrent trend in the training field is directed toward the use of projector technology, the overhead projector is still the most popular presentation device used today. Many churches, schools, and training rooms have an overhead projector. This section will consider some guidelines and tips for the preparation of transparencies and slides, and how to use them effectively in presen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transparencies/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good use of white space. Use wide margins. Do not pack too much on a single slide or transparency.  Summarize each idea on one slide, instead of splitting a singl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paring use of color. Use it to highlight, emphasize, and draw distinctions, but do not use it for effect, psychological manipulation, or any other reason that you will end up having difficulty justifying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s fine; but talk about it, do not rea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otion, unless it makes the point or is the point. Otherwise, it is merely distracting</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visibility from the back of the room. There are no hard and fast rules for font size. Why? Because room sizes vary. So, get in the habit of checking your visual aids for visibility from the back of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serif fonts such as Times Roman and Courier are easier to read and should be used for text. However, for large headlines, fonts such as Arial and Helvetica are better.  Do not use fancy fonts unless they are part of the point you ar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79320"/>
            <a:ext cx="4297320" cy="3222720"/>
          </a:xfrm>
          <a:prstGeom prst="rect">
            <a:avLst/>
          </a:prstGeom>
          <a:ln w="0">
            <a:noFill/>
          </a:ln>
        </p:spPr>
      </p:sp>
      <p:sp>
        <p:nvSpPr>
          <p:cNvPr id="189"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diagrams simple. Nothing will lose your audience faster than a diagram they cannot quickly fol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use of clip arts.  Use only to support your point. Pictures, cartoons, icons, symbols, etc. are neat if properly used. Otherwise, they detract from what you are d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ing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 ever been at a presentation where you could hardly make out what was on the screen because the presenter used colors that made it hard to distinguish the text from the 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colors for presentation slides is one of the important decisions that must be made at the beginning of the slide production process. Here are some ideas to keep in mind when choosing colors for your next set of presentation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most common mistakes in selecting colors for presentation slides is not having enough contrast between the colors chosen for the background and the text or graphics. If you want the audience to see the text or graphics on the screen, they must be in a color that has a high contrast with the background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otional Meaning of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have shown that different colors evoke different general feelings in many people. This can be important when selecting colors for your presentation slides since you will want to avoid colors that will negatively impact the message you are delivering. Here are some common interpretations for col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General </a:t>
            </a:r>
            <a:r>
              <a:rPr b="1" lang="en-US" sz="800" spc="-1" strike="noStrike">
                <a:solidFill>
                  <a:srgbClr val="000000"/>
                </a:solidFill>
                <a:latin typeface="Arial"/>
              </a:rPr>
              <a:t>	</a:t>
            </a:r>
            <a:r>
              <a:rPr b="1" lang="en-US" sz="800" spc="-1" strike="noStrike">
                <a:solidFill>
                  <a:srgbClr val="000000"/>
                </a:solidFill>
                <a:latin typeface="Arial"/>
              </a:rPr>
              <a:t>Feelings Evok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a:t>
            </a:r>
            <a:r>
              <a:rPr b="0" lang="en-US" sz="800" spc="-1" strike="noStrike">
                <a:solidFill>
                  <a:srgbClr val="000000"/>
                </a:solidFill>
                <a:latin typeface="Arial"/>
              </a:rPr>
              <a:t>	</a:t>
            </a:r>
            <a:r>
              <a:rPr b="0" lang="en-US" sz="800" spc="-1" strike="noStrike">
                <a:solidFill>
                  <a:srgbClr val="000000"/>
                </a:solidFill>
                <a:latin typeface="Arial"/>
              </a:rPr>
              <a:t>Heavy, formal, highly techn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a:t>
            </a:r>
            <a:r>
              <a:rPr b="0" lang="en-US" sz="800" spc="-1" strike="noStrike">
                <a:solidFill>
                  <a:srgbClr val="000000"/>
                </a:solidFill>
                <a:latin typeface="Arial"/>
              </a:rPr>
              <a:t>	</a:t>
            </a:r>
            <a:r>
              <a:rPr b="0" lang="en-US" sz="800" spc="-1" strike="noStrike">
                <a:solidFill>
                  <a:srgbClr val="000000"/>
                </a:solidFill>
                <a:latin typeface="Arial"/>
              </a:rPr>
              <a:t>Earth, simplicity, outdo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a:t>
            </a:r>
            <a:r>
              <a:rPr b="0" lang="en-US" sz="800" spc="-1" strike="noStrike">
                <a:solidFill>
                  <a:srgbClr val="000000"/>
                </a:solidFill>
                <a:latin typeface="Arial"/>
              </a:rPr>
              <a:t>	</a:t>
            </a:r>
            <a:r>
              <a:rPr b="0" lang="en-US" sz="800" spc="-1" strike="noStrike">
                <a:solidFill>
                  <a:srgbClr val="000000"/>
                </a:solidFill>
                <a:latin typeface="Arial"/>
              </a:rPr>
              <a:t>Peace, tranquility, trust, conf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r>
              <a:rPr b="0" lang="en-US" sz="800" spc="-1" strike="noStrike">
                <a:solidFill>
                  <a:srgbClr val="000000"/>
                </a:solidFill>
                <a:latin typeface="Arial"/>
              </a:rPr>
              <a:t>	</a:t>
            </a:r>
            <a:r>
              <a:rPr b="0" lang="en-US" sz="800" spc="-1" strike="noStrike">
                <a:solidFill>
                  <a:srgbClr val="000000"/>
                </a:solidFill>
                <a:latin typeface="Arial"/>
              </a:rPr>
              <a:t>Royalty, wisdom, spirituality, myst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r>
              <a:rPr b="0" lang="en-US" sz="800" spc="-1" strike="noStrike">
                <a:solidFill>
                  <a:srgbClr val="000000"/>
                </a:solidFill>
                <a:latin typeface="Arial"/>
              </a:rPr>
              <a:t>	</a:t>
            </a:r>
            <a:r>
              <a:rPr b="0" lang="en-US" sz="800" spc="-1" strike="noStrike">
                <a:solidFill>
                  <a:srgbClr val="000000"/>
                </a:solidFill>
                <a:latin typeface="Arial"/>
              </a:rPr>
              <a:t>Nature, environment, health, ins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a:t>
            </a:r>
            <a:r>
              <a:rPr b="0" lang="en-US" sz="800" spc="-1" strike="noStrike">
                <a:solidFill>
                  <a:srgbClr val="000000"/>
                </a:solidFill>
                <a:latin typeface="Arial"/>
              </a:rPr>
              <a:t>	</a:t>
            </a:r>
            <a:r>
              <a:rPr b="0" lang="en-US" sz="800" spc="-1" strike="noStrike">
                <a:solidFill>
                  <a:srgbClr val="000000"/>
                </a:solidFill>
                <a:latin typeface="Arial"/>
              </a:rPr>
              <a:t>Conservative, practical, reli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r>
              <a:rPr b="0" lang="en-US" sz="800" spc="-1" strike="noStrike">
                <a:solidFill>
                  <a:srgbClr val="000000"/>
                </a:solidFill>
                <a:latin typeface="Arial"/>
              </a:rPr>
              <a:t>	</a:t>
            </a:r>
            <a:r>
              <a:rPr b="0" lang="en-US" sz="800" spc="-1" strike="noStrike">
                <a:solidFill>
                  <a:srgbClr val="000000"/>
                </a:solidFill>
                <a:latin typeface="Arial"/>
              </a:rPr>
              <a:t>Passion, love, intensity, heat, aggre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nge</a:t>
            </a:r>
            <a:r>
              <a:rPr b="0" lang="en-US" sz="800" spc="-1" strike="noStrike">
                <a:solidFill>
                  <a:srgbClr val="000000"/>
                </a:solidFill>
                <a:latin typeface="Arial"/>
              </a:rPr>
              <a:t>	</a:t>
            </a:r>
            <a:r>
              <a:rPr b="0" lang="en-US" sz="800" spc="-1" strike="noStrike">
                <a:solidFill>
                  <a:srgbClr val="000000"/>
                </a:solidFill>
                <a:latin typeface="Arial"/>
              </a:rPr>
              <a:t>Warmth, expansive, flamboy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r>
              <a:rPr b="0" lang="en-US" sz="800" spc="-1" strike="noStrike">
                <a:solidFill>
                  <a:srgbClr val="000000"/>
                </a:solidFill>
                <a:latin typeface="Arial"/>
              </a:rPr>
              <a:t>	</a:t>
            </a:r>
            <a:r>
              <a:rPr b="0" lang="en-US" sz="800" spc="-1" strike="noStrike">
                <a:solidFill>
                  <a:srgbClr val="000000"/>
                </a:solidFill>
                <a:latin typeface="Arial"/>
              </a:rPr>
              <a:t>Optimism, happiness, ideal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r>
              <a:rPr b="0" lang="en-US" sz="800" spc="-1" strike="noStrike">
                <a:solidFill>
                  <a:srgbClr val="000000"/>
                </a:solidFill>
                <a:latin typeface="Arial"/>
              </a:rPr>
              <a:t>	</a:t>
            </a:r>
            <a:r>
              <a:rPr b="0" lang="en-US" sz="800" spc="-1" strike="noStrike">
                <a:solidFill>
                  <a:srgbClr val="000000"/>
                </a:solidFill>
                <a:latin typeface="Arial"/>
              </a:rPr>
              <a:t>Purity, reverence, simpli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is general interpretation, you would want to steer away from using too much black, orange, gray, red, and br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 combinations to avo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olors should not be used together for a variety of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nd Green clash with each other and are very hard to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Orange cause a disturbing effect on readers. The colors are both too vibr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Red just do not have enough contrast to be     seen well when used together.</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ombination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olor schemes that you can use in presentation slides are either a dark background with light text and graphics or a light background with dark text and graphic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ckground with light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a dark blue or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White or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red, lime, gree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blue or dark purple background provides good emotional feelings as the predominant color on the screen and the yellow and white text have a good contrast with the backg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ODU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a:t>
            </a:r>
            <a:r>
              <a:rPr b="0" i="1" lang="en-US" sz="900" spc="-1" strike="noStrike">
                <a:solidFill>
                  <a:srgbClr val="000000"/>
                </a:solidFill>
                <a:latin typeface="Arial"/>
              </a:rPr>
              <a:t>This is a seminar appropriate for group work. It can be used as a workshop. You may use hands-on material so that your group may learn how to produce the various types of visual material pres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important strength of our current generation, without a doubt, is the processing of information and the form in which it is transmitted and recei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most important senses that the human being has are auditory and visu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 long time, information in our church was transmitted only through the spoken word.  Through time and development, many other forms of transmitting information were created such as the white board, overhead projector with transparencies, slides, videos, recordings, and comput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devices are important in encouraging the audience to use both senses (auditory and visual) at the same time.  This brings about more interaction with the content presented, greater concentration, and increased mental stimulus as one imagines the scenes that are presented, as well as those to co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ood example would be a sermon that presents the return of Christ. At the end of the presentation the scene of Christ’s return appears in bright and vibrant colors, and the presenter invites everyone to sing a hymn related to the message.  During this hymn, scenes of Jesus’ return continue to be projected.  What an impact this causes on the mind and the soul of those who are pre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resources certainly exist for preaching the gospel, and they should be used, but none of them have become as effective and complete in their ability to transmit information as the utilization of these audiovisual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oped that through this seminar God may help each one of us to be a better speaker for His glory.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Background with dark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warm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dark blue, black,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dark green, burgu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ge background combines the emotional impact of brown and white without gaining too much of the negative effect of these colors such as boring and staid. The dark text provides enough contrast to make the item stand out on the scre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 Combination Ru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AUDIO AND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nd more people want to add audio and video segments to their presentation slides to increase the impact that their message has on their audience. Any item on a presentation slide should be there for one purpose only – to increase the impact of the message being delivered. Once you have decided that an audio or video segment will add to your message (and you are not adding it because you like it), here are some idea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Audio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eople can’t understand what is being said on an audio segment, then there is no point in using it. The quality of an audio segment is magnified – for better or for worse – when it’s amplified through a sound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quality audio segment sounds clear and crisp, and a poor quality audio segment sounds even worse and more distorted when it is amplified. One of the biggest factors that determine the quality of the audio segment is the sample rate of the recording. A stereo recording has better sound because it is closer to sounds in the real world where we hear in both e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Video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video file is primarily dependent on the resolution that you use to record the video. If possible, record the video using a digital video recorder because the quality does not deteriorate as the tape is edited or played.  The higher the resolution, the better the quality of the video will be. Select the resolution based on the ability to show a large enough picture on a screen that people can clearly see from the back of the roo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Video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er quality audio comes from a quality soun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reo recording has bett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hoice is to store your audio in a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video depends on the resolution that you use. You select the resolution based on the ability to show a large enough picture on the screen that people can clearly see from the back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and video segments can add impact to your presentation if they are high quality and used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veryone seems to be interested in creating high-tech computer generated presentations, the flip chart still continues to be the most effective presentation media of all. Flip charts are an economical means of putting on a powerful presentation. They are simple and effective, they will not fail because their batteries went dead and you do not have to replace bulbs 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esentations delivered before small groups of 35 people or less, the flip chart is a perfect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of using a flip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do not need electricity</a:t>
            </a:r>
            <a:r>
              <a:rPr b="0" lang="en-US" sz="1200" spc="-1" strike="noStrike">
                <a:solidFill>
                  <a:srgbClr val="000000"/>
                </a:solidFill>
                <a:latin typeface="Arial"/>
              </a:rPr>
              <a:t> – You do not need to worry about whether the bulb will burn out or worry that you may have forgotten an extension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re economical</a:t>
            </a:r>
            <a:r>
              <a:rPr b="0" lang="en-US" sz="1200" spc="-1" strike="noStrike">
                <a:solidFill>
                  <a:srgbClr val="000000"/>
                </a:solidFill>
                <a:latin typeface="Arial"/>
              </a:rPr>
              <a:t> – They do not require you to use any special films or printers to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an be added very easily</a:t>
            </a:r>
            <a:r>
              <a:rPr b="0" lang="en-US" sz="1200" spc="-1" strike="noStrike">
                <a:solidFill>
                  <a:srgbClr val="000000"/>
                </a:solidFill>
                <a:latin typeface="Arial"/>
              </a:rPr>
              <a:t> – An inexpensive box of flip chart markers allows you all the creativity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llow spontaneity</a:t>
            </a:r>
            <a:r>
              <a:rPr b="0" lang="en-US" sz="1200" spc="-1" strike="noStrike">
                <a:solidFill>
                  <a:srgbClr val="000000"/>
                </a:solidFill>
                <a:latin typeface="Arial"/>
              </a:rPr>
              <a:t> – Any last minute changes can be easily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world of high-tech computers and fancy software, many of us feel we have to create a presentation that shows off to others our ability to use computers and our latest clip art library. This is not true. As speakers, we may think in this manner, but remember that you and your ability to communicate should be the presentation, not your 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lip charts are low tech, they are reliable and do not require any special skill to use th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ing the most of your flip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your flip chart and the stand match. There are several types of stands. The best stands have clamps on the top of them to hold the pad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raw a lot of straight lines or want to make sure that your text is aligned, you may want to use pads that have grids on them. You can use a fine pencil to draw lines that you will see, but are invisible to you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out your visual aids on normal paper before you move to the charts. This gives you an idea of where you are heading and saves a lot of paper. If you make a small mistake, use white out correction fluid to cover them up. For large errors, you may want to cover the mistake with a stick-on label and then write over the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ight markers. Instead of normal magic makers that may bleed through the page, try markers that are specially designed for flip charts. This will save you a lot of wasted paper. Remember that pink, yellow, and orange markers are difficult to see beyond the third row of your audien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your text and titles neatly and clearly. If you have less than perfect penmanship, you may consider asking someone else to make the chart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ll capital letters. A combination of upper/lower case letters is easier for people to read. Do not put more than six lines on a flip chart, and try to keep the words to less than six on each line. This is called the 6 X 6 rule and forces you to keep your topic con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flip chart is a visual AID. If it does not enhance your performance, it could become a hindrance. Use the training aid that is best suited fo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repared” flip charts can take a considerable amount of time. Make sure you start preparing your charts early enough so you can review them and make any changes or corrections before h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common mistake presenters make with visuals is overloading them, says Judith Stein, co-author of </a:t>
            </a:r>
            <a:r>
              <a:rPr b="0" i="1" lang="en-US" sz="1000" spc="-1" strike="noStrike">
                <a:solidFill>
                  <a:srgbClr val="000000"/>
                </a:solidFill>
                <a:latin typeface="Arial"/>
              </a:rPr>
              <a:t>Presentations for Decision Make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want the audience to look at the screen, quickly get the message, and then focus on you,” she says. When viewers have to spend time reading “you become the voice-over to a video, and lose your effectiveness as a presenter. Visuals are supposed to support or aid you in giving the presentation – not replace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ret for a good chart is to make it simple to communicat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rts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ying a chart often requires changing the chart form – switching from a line graph to horizontal bar chart, for example, because it communicates the message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a headline or an action statement, look at the verbs in the statement to get an idea of the best chart to use to present you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charts are best when a variable has more than four or five data points, and you want to emphasize continuity. The slope of the line tells viewers in a glance the direction of the trends. However, if you have fewer than five data points, use a column chart (vertical b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mmonly used forms include the organization chart (shows functional relationship in a group or structure) the flow chart (diagram process), and the Gantt chart (shows the duration of different tasks across a calendar sp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se simple charts – as well as more complicated forms – has become considerably easier with presentation software. However, do not let the artistic possibilities interfere with the messag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y one message per chart. Make the message the h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chart easy to read. Label the X- and Y-axes and label the lines, bars, or pi wedges. Make the most important text largest, the most important data lines or section dark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ccurate. Always start a numerical axis at ze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ll unnecessary details. Avoid grid lines, data points, boxes, and other devices unless they relate to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o more than four colors per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vibrant fill patterns, such as contrasting lines, wave patterns, and crisscr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cus attention, use color, shading, or images such as arrows to highlight key word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n upper and lower case. Words written in all capital letters are hard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ars and columns wider than the spa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sentation software sensibly. Simplify the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aid is anything the audience can see that helps the speaker get his or her message across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nd clarity of visual aids are major factors in determining the effectiveness of an oral presentation. By using visuals effectively, you will grab the viewer’s attention and focus it on the important points. However, with visuals that are difficult to read, you may end up with an audience failing to understand the points you are trying to make because they are squinting and straining to see. Good visuals are essential for effective teaching and important to successful present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bar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harts – Color Pal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lor palettes that you can use in your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CHALKBOARD/WHITE BO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nything you put on the board will be clear to you; the test that you must pass is to make your chalkboard/white board presentation clear to the audience that is seeing it for the first time. Keep these three principles in mind while planning your board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t your audience see and read what you have written</a:t>
            </a:r>
            <a:r>
              <a:rPr b="0" lang="en-US" sz="1000" spc="-1" strike="noStrike">
                <a:solidFill>
                  <a:srgbClr val="000000"/>
                </a:solidFill>
                <a:latin typeface="Arial"/>
              </a:rPr>
              <a:t>. Illegible or hidden writing is valuel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the audience time to copy what you have writte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your board work</a:t>
            </a:r>
            <a:r>
              <a:rPr b="0" lang="en-US" sz="1000" spc="-1" strike="noStrike">
                <a:solidFill>
                  <a:srgbClr val="000000"/>
                </a:solidFill>
                <a:latin typeface="Arial"/>
              </a:rPr>
              <a:t>. It will help the audience to interpret their notes. An organized board models good note ta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to consider when you use the chalkboard/white bo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average-sized room, the audience on the back rows may have trouble reading words in small handwriting. Try to keep your work visible as long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sk the audience to analyze an idea, they will not begin to think analytically until they have finished copying. When you want to make a point, stop wri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one panel at a time, always starting at the top and moving down. Underline, or in some other way mark, the most important parts of your presentation – the major assumptions, or conclusions, or the intermediate steps that you plan to refer to later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d chalk may help to clarify draw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a white board be certain that you are using the correct type of marker. (There are some markers that can only be erased with alcoho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kboard/White Board Ru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la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write below line of sight for the audience in the back r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from right to left if you are right-handed, so view is not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ake a point, stop writing, let the audience catch up, then discu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ase only when you have run out of space to w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 object lesson is very simple; to visually communicate a single thought or idea in such a way that it is remembered. The object lesson becomes a memory “anchor” for what you want the audience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or complicated, the object lesson is a tool to reinforce the lesson. A few simple do´s and don’ts can make all the difference in the impact of an object less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reach!</a:t>
            </a:r>
            <a:r>
              <a:rPr b="0" lang="en-US" sz="1200" spc="-1" strike="noStrike">
                <a:solidFill>
                  <a:srgbClr val="000000"/>
                </a:solidFill>
                <a:latin typeface="Arial"/>
              </a:rPr>
              <a:t> The goal is to convey a single thought at one time and to reinforce that idea with the object lesson. Do not deliver a ser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plain language</a:t>
            </a:r>
            <a:r>
              <a:rPr b="0" lang="en-US" sz="1200" spc="-1" strike="noStrike">
                <a:solidFill>
                  <a:srgbClr val="000000"/>
                </a:solidFill>
                <a:latin typeface="Arial"/>
              </a:rPr>
              <a:t>. Do not use complicated words, but use everyday, simple words to get you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object first (Not last)</a:t>
            </a:r>
            <a:r>
              <a:rPr b="0" lang="en-US" sz="1200" spc="-1" strike="noStrike">
                <a:solidFill>
                  <a:srgbClr val="000000"/>
                </a:solidFill>
                <a:latin typeface="Arial"/>
              </a:rPr>
              <a:t> Use it as the reference point to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the one thought/idea/concept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everyday items to communicate everyday truth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he object as big and visibl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 are the easiest visual, yet probably the hardest to put together because ideas abound. Finding the right idea and the right object to communicate this idea is difficul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steps to develop Object Less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us was quick to point out things in nature or his surroundings to illustrate spiritual truths. An object can be a bridge to understanding. By using an object the lesson will be retained longer and will be retold by the people several times to friends or relativ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ample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Known by Our Frui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would you rather eat a rotten banana or one that is nice and rip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rotten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good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 4 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a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do during the presentatio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how the congregation the bad banana first and get their reaction. Then you display the good banana and get a different rea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s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show everyone the bad, rotten banana ask, “Who would like to eat this banana? Why not? How can you tell this banana will not taste very good?” Then show everyone the good banana and ask, “Now, who would like to eat this banana? Why? How can you tell this banana will taste good?”  Our lives are like one of these two pieces of fruit. People know who we are by the type of fruit we produce. Matthew 7:20, “Thus by their fruit you will recognize them.” What kind of fruit do you want to produce? Will your fruit be good, like this banana, or not so good, like this other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uit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li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th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AUDIO VISUAL AI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finition of a visual aid states, the major reason for using them is to help speakers effectively communicate their message to their audience. More importantly, these aids can also help your audience stay focused and have a greater retention of information.  There are a number of reasons for using visu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s attention is focused more completely. The ebb and flow of the audience’s attention is inevitable. The challenge is to direct the audience’s attention at strategic periods. Visual aids provide one mechanism to direct and focus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 retains the message better. Research has clearly shown that people retain more when they see and hear compared to when they simply hear. For example, research has found that message retention after three days is only 10% following an oral presentation, but 65% following an oral and visual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make you more persuasive. Studies have found that presenters using visuals conducted meetings in less time and got proposals approved more oft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alysis might include considerations rela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making a presentation on “Leadership,” knowing your audience’s average educational level is vital. Well-prepared material and vocabulary that is ill-suited to the audience can have the same effect as poorly prepared material delivered to the correct aud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select the material for your presentation it is a good idea to ask about the setting, location, room size, and how many people will be there.  If possible, make a trip to the location where your speech will take place. By doing this, you can see all possibilities and adapt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ing Appropriate Material for Each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uggestions have been discussed which can greatly help you to decide what type of material to use, depending upon your audience. The basic principle is that your audience needs to see what you want to illustrate and hear what you want to say.  When you think about using a flip chart, remember that this visual aid is for a smaller number of people.  A presentation with slides or overhead transparencies is more suitable for a large audience and large auditoriu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 not have all the technological resources available, your creativity can make the difference as you use simple resources and receive great results in retur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it is not 100% necessary for the success of your speech, audiovisual aids can often be the difference between a good and a great presentation.</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ules and principles about audiovisual use and production have been illustrated. We have learned about many tools that can be used to present our message effectively.  There are eight additional considerations to remember every time you are invited to speak. Failure to pay attention to each of these can result in a presentation that is not as effective as it c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purpose. Pra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your audie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material and rehe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audienc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God bless you in your objective so you may do your best for God and His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ssage is transmitted more efficiently. </a:t>
            </a:r>
            <a:r>
              <a:rPr b="0" lang="en-US" sz="1200" spc="-1" strike="noStrike">
                <a:solidFill>
                  <a:srgbClr val="000000"/>
                </a:solidFill>
                <a:latin typeface="Arial"/>
              </a:rPr>
              <a:t>The adage, “A picture is worth a thousands words” is true. If you want the audience to understand how yeast is used in bread making, your message will be transmitted better if the audience can see the ingredients</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have come to expect visuals. </a:t>
            </a:r>
            <a:r>
              <a:rPr b="0" lang="en-US" sz="1200" spc="-1" strike="noStrike">
                <a:solidFill>
                  <a:srgbClr val="000000"/>
                </a:solidFill>
                <a:latin typeface="Arial"/>
              </a:rPr>
              <a:t>Today’s world is very visual compared to just a few decades ago.  The average person is visually oriented and accustomed to visual presentation. Thus, a strictly oral presentation is boring to the majority of the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help establish organization for presentation. </a:t>
            </a:r>
            <a:r>
              <a:rPr b="0" lang="en-US" sz="1200" spc="-1" strike="noStrike">
                <a:solidFill>
                  <a:srgbClr val="000000"/>
                </a:solidFill>
                <a:latin typeface="Arial"/>
              </a:rPr>
              <a:t>One of the most effective uses of visual aids is establishing overall organization for the presentation.  Visuals force you to order and sequence the ideas you will pres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add variety and emphasis to your presentation. </a:t>
            </a:r>
            <a:r>
              <a:rPr b="0" lang="en-US" sz="1200" spc="-1" strike="noStrike">
                <a:solidFill>
                  <a:srgbClr val="000000"/>
                </a:solidFill>
                <a:latin typeface="Arial"/>
              </a:rPr>
              <a:t>Effective teachers use a variety of different teaching methods and techniques as they teach. Using a variety of visuals keeps interest by providing divers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message is presented both orally and visually.</a:t>
            </a:r>
            <a:r>
              <a:rPr b="0" lang="en-US" sz="1200" spc="-1" strike="noStrike">
                <a:solidFill>
                  <a:srgbClr val="000000"/>
                </a:solidFill>
                <a:latin typeface="Arial"/>
              </a:rPr>
              <a:t> Some people process information best by hearing it, others process it best seeing it. When you use visual aids with a presentation, you communicate with both type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s help you to be concise. </a:t>
            </a:r>
            <a:r>
              <a:rPr b="0" lang="en-US" sz="1200" spc="-1" strike="noStrike">
                <a:solidFill>
                  <a:srgbClr val="000000"/>
                </a:solidFill>
                <a:latin typeface="Arial"/>
              </a:rPr>
              <a:t>You are forced to distill your ideas down to their essence when using visu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fooled into thinking that flashy visuals can save an otherwise poorly-structured and delivered speech. You have to start with a well-developed speech before visual aids can have any major eff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OF AUDIO-VIS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audio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r>
              <a:rPr b="0" lang="en-US" sz="1200" spc="-1" strike="noStrike">
                <a:solidFill>
                  <a:srgbClr val="000000"/>
                </a:solidFill>
                <a:latin typeface="Arial"/>
              </a:rPr>
              <a:t>: do not change during the presentation. Examples of static 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a:t>
            </a:r>
            <a:r>
              <a:rPr b="0" lang="en-US" sz="1200" spc="-1" strike="noStrike">
                <a:solidFill>
                  <a:srgbClr val="000000"/>
                </a:solidFill>
                <a:latin typeface="Arial"/>
              </a:rPr>
              <a:t>change in some way during the presentation. Some examples of dynamic audio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recor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dynamic audiovisual aids will better hold an audience’s attention, but they are usually more time consuming to prepare.  Static visual aids may not have quite as much attention-getting potential as dynamic ones, but they can still be very effective and easier to prepare and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550AD-6EC3-4FCB-89D9-EA00C3759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6E3E3-C199-404B-8FE6-A2A398813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9787E-E21B-42F7-8982-3F4204A2F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2AB2-CB8F-4C4D-9ADF-5A61028CA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313EB-6978-4285-A268-8DA4E1AA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81D4-18D3-457B-89AE-96B423CD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7639-CABE-4841-842E-3A5993AE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184B2-A2E0-43E6-9322-D822EB9C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A989-C278-47A6-8E1D-305725F0B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A88D-99F7-4DDB-8109-31A11637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B8C2-FE97-48D0-B5C4-0BD300C2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3744-7E37-4FE2-9E50-578B7CFC0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701F-F060-4779-91E6-A8275EE0615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8.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8.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95640" y="404640"/>
            <a:ext cx="5067000" cy="191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Audio-Visual</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Use and Production</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p:nvPr/>
        </p:nvSpPr>
        <p:spPr>
          <a:xfrm>
            <a:off x="1405080" y="558972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adership Certif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Generanl Conference Women´s Ministries</a:t>
            </a:r>
            <a:endParaRPr b="0" lang="en-US" sz="1800" spc="-1" strike="noStrike">
              <a:solidFill>
                <a:srgbClr val="000000"/>
              </a:solidFill>
              <a:latin typeface="Arial"/>
            </a:endParaRPr>
          </a:p>
        </p:txBody>
      </p:sp>
      <p:sp>
        <p:nvSpPr>
          <p:cNvPr id="51" name=""/>
          <p:cNvSpPr/>
          <p:nvPr/>
        </p:nvSpPr>
        <p:spPr>
          <a:xfrm>
            <a:off x="3510000" y="256536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8A60CDF-AD68-457C-9350-6FF858F8F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196640"/>
            <a:ext cx="7859880" cy="504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Gothic"/>
              </a:rPr>
              <a:t>The more senses you can have the audience use, the more effective your communication will be. If you lecture, the only sense the audience will be using is hearing. If you lecture and use audio-visual aids, the audience will use their senses for sight and sound. </a:t>
            </a:r>
            <a:endParaRPr b="0" lang="en-US" sz="3200" spc="-1" strike="noStrike">
              <a:solidFill>
                <a:srgbClr val="000000"/>
              </a:solidFill>
              <a:latin typeface="Arial"/>
            </a:endParaRPr>
          </a:p>
        </p:txBody>
      </p:sp>
      <p:sp>
        <p:nvSpPr>
          <p:cNvPr id="72" name=""/>
          <p:cNvSpPr txBox="1"/>
          <p:nvPr/>
        </p:nvSpPr>
        <p:spPr>
          <a:xfrm>
            <a:off x="1476360" y="549360"/>
            <a:ext cx="608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Using Audio-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6DF789AA-8363-4AEF-A49C-1B041EE57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visual aids only when you are talking about them.</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about the visual aid while you are showing it</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to the audience, not to the visual aid</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74" name=""/>
          <p:cNvSpPr txBox="1"/>
          <p:nvPr/>
        </p:nvSpPr>
        <p:spPr>
          <a:xfrm>
            <a:off x="2549520" y="692280"/>
            <a:ext cx="3894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06189B34-9FEC-429B-A3E7-2C1A05BDA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flipH="1">
            <a:off x="7956720" y="0"/>
            <a:ext cx="712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456840" y="731520"/>
            <a:ext cx="7427880" cy="550548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ure that everyone in the audience can see and hear the audio-visual aid</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pass objects around in the audience while you are speaking</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ctice using the audio-visual aid before using it in a presentation.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77" name="" descr=""/>
          <p:cNvPicPr/>
          <p:nvPr/>
        </p:nvPicPr>
        <p:blipFill>
          <a:blip r:embed="rId1"/>
          <a:stretch/>
        </p:blipFill>
        <p:spPr>
          <a:xfrm>
            <a:off x="7300800" y="836640"/>
            <a:ext cx="1447920" cy="2376360"/>
          </a:xfrm>
          <a:prstGeom prst="rect">
            <a:avLst/>
          </a:prstGeom>
          <a:ln w="0">
            <a:noFill/>
          </a:ln>
        </p:spPr>
      </p:pic>
      <p:sp>
        <p:nvSpPr>
          <p:cNvPr id="3" name="PlaceHolder 2"/>
          <p:cNvSpPr>
            <a:spLocks noGrp="1"/>
          </p:cNvSpPr>
          <p:nvPr>
            <p:ph type="sldNum" idx="3"/>
          </p:nvPr>
        </p:nvSpPr>
        <p:spPr/>
        <p:txBody>
          <a:bodyPr/>
          <a:p>
            <a:fld id="{836DA2E1-13F4-45A3-999F-3150B0865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764640"/>
            <a:ext cx="8281800" cy="475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overuse audio-visual aid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 audio and visu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evelation techniqu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5148360" y="4081320"/>
            <a:ext cx="3168720" cy="2403720"/>
          </a:xfrm>
          <a:prstGeom prst="rect">
            <a:avLst/>
          </a:prstGeom>
          <a:ln w="0">
            <a:noFill/>
          </a:ln>
        </p:spPr>
      </p:pic>
      <p:sp>
        <p:nvSpPr>
          <p:cNvPr id="3" name="PlaceHolder 2"/>
          <p:cNvSpPr>
            <a:spLocks noGrp="1"/>
          </p:cNvSpPr>
          <p:nvPr>
            <p:ph type="sldNum" idx="3"/>
          </p:nvPr>
        </p:nvSpPr>
        <p:spPr/>
        <p:txBody>
          <a:bodyPr/>
          <a:p>
            <a:fld id="{AD66FEFF-6539-4C16-AE51-786F53517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1"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c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armon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phasis</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adabil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C418AAD-19C5-474C-ACE6-F2262A2C6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 cont.</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3"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lance</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n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ar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A3733884-6345-4C45-8B52-BDEA663655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782720"/>
            <a:ext cx="7859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good use of white spac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paring use of color. </a:t>
            </a:r>
            <a:endParaRPr b="0" lang="en-US" sz="3200" spc="-1" strike="noStrike">
              <a:solidFill>
                <a:srgbClr val="000000"/>
              </a:solidFill>
              <a:latin typeface="Arial"/>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 is fine; but talk about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o not read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5" name=""/>
          <p:cNvSpPr txBox="1"/>
          <p:nvPr/>
        </p:nvSpPr>
        <p:spPr>
          <a:xfrm>
            <a:off x="2484360" y="189000"/>
            <a:ext cx="4143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 for quality </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rPr>
              <a:t>transparencies/slides</a:t>
            </a:r>
            <a:endPar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ea typeface="Impact"/>
            </a:endParaRPr>
          </a:p>
        </p:txBody>
      </p:sp>
      <p:pic>
        <p:nvPicPr>
          <p:cNvPr id="86" name="" descr=""/>
          <p:cNvPicPr/>
          <p:nvPr/>
        </p:nvPicPr>
        <p:blipFill>
          <a:blip r:embed="rId5"/>
          <a:stretch/>
        </p:blipFill>
        <p:spPr>
          <a:xfrm>
            <a:off x="6613560" y="3203640"/>
            <a:ext cx="2530440" cy="2530440"/>
          </a:xfrm>
          <a:prstGeom prst="rect">
            <a:avLst/>
          </a:prstGeom>
          <a:ln w="0">
            <a:noFill/>
          </a:ln>
        </p:spPr>
      </p:pic>
      <p:sp>
        <p:nvSpPr>
          <p:cNvPr id="3" name="PlaceHolder 2"/>
          <p:cNvSpPr>
            <a:spLocks noGrp="1"/>
          </p:cNvSpPr>
          <p:nvPr>
            <p:ph type="sldNum" idx="3"/>
          </p:nvPr>
        </p:nvSpPr>
        <p:spPr/>
        <p:txBody>
          <a:bodyPr/>
          <a:p>
            <a:fld id="{63F77225-07F2-4FAA-8127-4F48710AE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74760" y="9079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motion, unless it makes the point or is the poin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visibility from the back of the roo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ly speaking, serif fonts such as Times Roman and Courier are easier to read and should be used for tex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590AFCE-1D70-4420-8FD4-21D39400B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4120" y="404280"/>
            <a:ext cx="8291520" cy="4526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diagrams simple. Nothing will lose your audience faster than a diagram they cannot quickly follow.</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 use of clip arts.  Use only to support your point.</a:t>
            </a:r>
            <a:endParaRPr b="0" lang="en-US" sz="3200" spc="-1" strike="noStrike">
              <a:solidFill>
                <a:srgbClr val="000000"/>
              </a:solidFill>
              <a:latin typeface="Arial"/>
            </a:endParaRPr>
          </a:p>
        </p:txBody>
      </p:sp>
      <p:pic>
        <p:nvPicPr>
          <p:cNvPr id="89" name="" descr=""/>
          <p:cNvPicPr/>
          <p:nvPr/>
        </p:nvPicPr>
        <p:blipFill>
          <a:blip r:embed="rId1"/>
          <a:stretch/>
        </p:blipFill>
        <p:spPr>
          <a:xfrm>
            <a:off x="2556000" y="4675320"/>
            <a:ext cx="4176720" cy="2066760"/>
          </a:xfrm>
          <a:prstGeom prst="rect">
            <a:avLst/>
          </a:prstGeom>
          <a:ln w="0">
            <a:noFill/>
          </a:ln>
          <a:effectLst>
            <a:outerShdw dist="40186" dir="20503642" blurRad="0" rotWithShape="0">
              <a:srgbClr val="000000"/>
            </a:outerShdw>
          </a:effectLst>
        </p:spPr>
      </p:pic>
      <p:sp>
        <p:nvSpPr>
          <p:cNvPr id="3" name="PlaceHolder 2"/>
          <p:cNvSpPr>
            <a:spLocks noGrp="1"/>
          </p:cNvSpPr>
          <p:nvPr>
            <p:ph type="sldNum" idx="3"/>
          </p:nvPr>
        </p:nvSpPr>
        <p:spPr/>
        <p:txBody>
          <a:bodyPr/>
          <a:p>
            <a:fld id="{8E9F6E97-B62C-4E3B-B8BF-22AE6CB99F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19120" y="1495440"/>
            <a:ext cx="8229600" cy="4525920"/>
          </a:xfrm>
          <a:prstGeom prst="rect">
            <a:avLst/>
          </a:prstGeom>
          <a:solidFill>
            <a:srgbClr val="000099"/>
          </a:solidFill>
          <a:ln w="9360">
            <a:solidFill>
              <a:srgbClr val="ffffff"/>
            </a:solidFill>
            <a:miter/>
          </a:ln>
          <a:effectLst>
            <a:outerShdw dist="17819" dir="2700000" blurRad="0" rotWithShape="0">
              <a:srgbClr val="000000"/>
            </a:outerShdw>
          </a:effectLst>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rk background with light tex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ackground </a:t>
            </a:r>
            <a:r>
              <a:rPr b="1" lang="en-US" sz="3200" spc="-1" strike="noStrike">
                <a:solidFill>
                  <a:srgbClr val="ffffff"/>
                </a:solidFill>
                <a:latin typeface="Arial"/>
              </a:rPr>
              <a:t>– a dark blue or dark purple.</a:t>
            </a:r>
            <a:endParaRPr b="0" lang="en-US" sz="3200" spc="-1" strike="noStrike">
              <a:solidFill>
                <a:srgbClr val="000000"/>
              </a:solidFill>
              <a:latin typeface="Arial"/>
            </a:endParaRPr>
          </a:p>
          <a:p>
            <a:pPr marL="33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a:t>
            </a:r>
            <a:r>
              <a:rPr b="1" lang="en-US" sz="3200" spc="-1" strike="noStrike">
                <a:solidFill>
                  <a:srgbClr val="ffffff"/>
                </a:solidFill>
                <a:latin typeface="Arial"/>
              </a:rPr>
              <a:t> – White or </a:t>
            </a:r>
            <a:r>
              <a:rPr b="1" lang="en-US" sz="3200" spc="-1" strike="noStrike">
                <a:solidFill>
                  <a:srgbClr val="ffff00"/>
                </a:solidFill>
                <a:latin typeface="Arial"/>
              </a:rPr>
              <a:t>yellow.</a:t>
            </a:r>
            <a:endParaRPr b="0" lang="en-US" sz="3200" spc="-1" strike="noStrike">
              <a:solidFill>
                <a:srgbClr val="000000"/>
              </a:solidFill>
              <a:latin typeface="Arial"/>
            </a:endParaRPr>
          </a:p>
          <a:p>
            <a:pPr marL="33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nt Colors</a:t>
            </a:r>
            <a:r>
              <a:rPr b="1" lang="en-US" sz="3200" spc="-1" strike="noStrike">
                <a:solidFill>
                  <a:srgbClr val="ffffff"/>
                </a:solidFill>
                <a:latin typeface="Arial"/>
              </a:rPr>
              <a:t> – </a:t>
            </a:r>
            <a:r>
              <a:rPr b="1" lang="en-US" sz="3200" spc="-1" strike="noStrike">
                <a:solidFill>
                  <a:srgbClr val="ff3300"/>
                </a:solidFill>
                <a:latin typeface="Arial"/>
              </a:rPr>
              <a:t>red</a:t>
            </a:r>
            <a:r>
              <a:rPr b="1" lang="en-US" sz="3200" spc="-1" strike="noStrike">
                <a:solidFill>
                  <a:srgbClr val="ffffff"/>
                </a:solidFill>
                <a:latin typeface="Arial"/>
              </a:rPr>
              <a:t>, </a:t>
            </a:r>
            <a:r>
              <a:rPr b="1" lang="en-US" sz="3200" spc="-1" strike="noStrike">
                <a:solidFill>
                  <a:srgbClr val="ccff33"/>
                </a:solidFill>
                <a:latin typeface="Arial"/>
              </a:rPr>
              <a:t>lime</a:t>
            </a:r>
            <a:r>
              <a:rPr b="1" lang="en-US" sz="3200" spc="-1" strike="noStrike">
                <a:solidFill>
                  <a:srgbClr val="ffffff"/>
                </a:solidFill>
                <a:latin typeface="Arial"/>
              </a:rPr>
              <a:t>, </a:t>
            </a:r>
            <a:r>
              <a:rPr b="1" lang="en-US" sz="3200" spc="-1" strike="noStrike">
                <a:solidFill>
                  <a:srgbClr val="99cc00"/>
                </a:solidFill>
                <a:latin typeface="Arial"/>
              </a:rPr>
              <a:t>green</a:t>
            </a:r>
            <a:r>
              <a:rPr b="1" lang="en-US" sz="3200" spc="-1" strike="noStrike">
                <a:solidFill>
                  <a:srgbClr val="ffffff"/>
                </a:solidFill>
                <a:latin typeface="Arial"/>
              </a:rPr>
              <a:t>, </a:t>
            </a:r>
            <a:r>
              <a:rPr b="1" lang="en-US" sz="3200" spc="-1" strike="noStrike">
                <a:solidFill>
                  <a:srgbClr val="66ffff"/>
                </a:solidFill>
                <a:latin typeface="Arial"/>
              </a:rPr>
              <a:t>light blue.</a:t>
            </a:r>
            <a:endParaRPr b="0" lang="en-US" sz="3200" spc="-1" strike="noStrike">
              <a:solidFill>
                <a:srgbClr val="000000"/>
              </a:solidFill>
              <a:latin typeface="Arial"/>
            </a:endParaRPr>
          </a:p>
        </p:txBody>
      </p:sp>
      <p:sp>
        <p:nvSpPr>
          <p:cNvPr id="91" name=""/>
          <p:cNvSpPr txBox="1"/>
          <p:nvPr/>
        </p:nvSpPr>
        <p:spPr>
          <a:xfrm>
            <a:off x="971640" y="404640"/>
            <a:ext cx="6913440" cy="7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suggestion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EB754945-7378-4D00-9401-53D574365B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20280"/>
            <a:ext cx="7559640" cy="5040360"/>
          </a:xfrm>
          <a:prstGeom prst="rect">
            <a:avLst/>
          </a:prstGeom>
          <a:solidFill>
            <a:srgbClr val="2d53f5">
              <a:alpha val="48000"/>
            </a:srgbClr>
          </a:solid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 most important strength of our current generation, without a doubt, is the processing of information and the form in which it is transmitted and received.</a:t>
            </a:r>
            <a:endParaRPr b="0" lang="en-US" sz="3600" spc="-1" strike="noStrike">
              <a:solidFill>
                <a:srgbClr val="000000"/>
              </a:solidFill>
              <a:latin typeface="Arial"/>
            </a:endParaRPr>
          </a:p>
        </p:txBody>
      </p:sp>
      <p:pic>
        <p:nvPicPr>
          <p:cNvPr id="53" name="" descr=""/>
          <p:cNvPicPr/>
          <p:nvPr/>
        </p:nvPicPr>
        <p:blipFill>
          <a:blip r:embed="rId1"/>
          <a:stretch/>
        </p:blipFill>
        <p:spPr>
          <a:xfrm>
            <a:off x="7705800" y="4581360"/>
            <a:ext cx="1438200" cy="2016360"/>
          </a:xfrm>
          <a:prstGeom prst="rect">
            <a:avLst/>
          </a:prstGeom>
          <a:ln w="0">
            <a:noFill/>
          </a:ln>
        </p:spPr>
      </p:pic>
      <p:sp>
        <p:nvSpPr>
          <p:cNvPr id="3" name="PlaceHolder 2"/>
          <p:cNvSpPr>
            <a:spLocks noGrp="1"/>
          </p:cNvSpPr>
          <p:nvPr>
            <p:ph type="sldNum" idx="3"/>
          </p:nvPr>
        </p:nvSpPr>
        <p:spPr/>
        <p:txBody>
          <a:bodyPr/>
          <a:p>
            <a:fld id="{8D008C14-594C-4284-BE3B-A0CB516FA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92280"/>
            <a:ext cx="8229600" cy="543384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ght Background with dark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ckground</a:t>
            </a:r>
            <a:r>
              <a:rPr b="1" lang="en-US" sz="3200" spc="-1" strike="noStrike">
                <a:solidFill>
                  <a:srgbClr val="000000"/>
                </a:solidFill>
                <a:latin typeface="Arial"/>
              </a:rPr>
              <a:t> – </a:t>
            </a:r>
            <a:r>
              <a:rPr b="1" lang="en-US" sz="3200" spc="-1" strike="noStrike">
                <a:solidFill>
                  <a:srgbClr val="ad8351"/>
                </a:solidFill>
                <a:latin typeface="Arial"/>
              </a:rPr>
              <a:t>warm beig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xt </a:t>
            </a:r>
            <a:r>
              <a:rPr b="1" lang="en-US" sz="3200" spc="-1" strike="noStrike">
                <a:solidFill>
                  <a:srgbClr val="000000"/>
                </a:solidFill>
                <a:latin typeface="Arial"/>
              </a:rPr>
              <a:t>– </a:t>
            </a:r>
            <a:r>
              <a:rPr b="1" lang="en-US" sz="3200" spc="-1" strike="noStrike">
                <a:solidFill>
                  <a:srgbClr val="333399"/>
                </a:solidFill>
                <a:latin typeface="Arial"/>
              </a:rPr>
              <a:t>dark blue</a:t>
            </a:r>
            <a:r>
              <a:rPr b="1" lang="en-US" sz="3200" spc="-1" strike="noStrike">
                <a:solidFill>
                  <a:srgbClr val="000000"/>
                </a:solidFill>
                <a:latin typeface="Arial"/>
              </a:rPr>
              <a:t>, black, </a:t>
            </a:r>
            <a:r>
              <a:rPr b="1" lang="en-US" sz="3200" spc="-1" strike="noStrike">
                <a:solidFill>
                  <a:srgbClr val="800080"/>
                </a:solidFill>
                <a:latin typeface="Arial"/>
              </a:rPr>
              <a:t>dark purpl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nt colors</a:t>
            </a:r>
            <a:r>
              <a:rPr b="1" lang="en-US" sz="3200" spc="-1" strike="noStrike">
                <a:solidFill>
                  <a:srgbClr val="000000"/>
                </a:solidFill>
                <a:latin typeface="Arial"/>
              </a:rPr>
              <a:t> – </a:t>
            </a:r>
            <a:r>
              <a:rPr b="1" lang="en-US" sz="3200" spc="-1" strike="noStrike">
                <a:solidFill>
                  <a:srgbClr val="006600"/>
                </a:solidFill>
                <a:latin typeface="Arial"/>
              </a:rPr>
              <a:t>dark green</a:t>
            </a:r>
            <a:r>
              <a:rPr b="1" lang="en-US" sz="3200" spc="-1" strike="noStrike">
                <a:solidFill>
                  <a:srgbClr val="000000"/>
                </a:solidFill>
                <a:latin typeface="Arial"/>
              </a:rPr>
              <a:t>, </a:t>
            </a:r>
            <a:r>
              <a:rPr b="1" lang="en-US" sz="3200" spc="-1" strike="noStrike">
                <a:solidFill>
                  <a:srgbClr val="cc0000"/>
                </a:solidFill>
                <a:latin typeface="Arial"/>
              </a:rPr>
              <a:t>burgund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5DE8000-70E1-41C9-AEA0-2994D7ACE2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600200"/>
            <a:ext cx="8435880" cy="4525920"/>
          </a:xfrm>
          <a:prstGeom prst="rect">
            <a:avLst/>
          </a:prstGeom>
          <a:noFill/>
          <a:ln w="57240">
            <a:solidFill>
              <a:srgbClr val="ffcc00"/>
            </a:solidFill>
            <a:miter/>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ore than four colors per slide.</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et about color until the end.</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ight or white letters on dark backgrounds.</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use of similar colors, such as red and orange; they are difficult to read.</a:t>
            </a:r>
            <a:endParaRPr b="0" lang="en-US" sz="2800" spc="-1" strike="noStrike">
              <a:solidFill>
                <a:srgbClr val="000000"/>
              </a:solidFill>
              <a:latin typeface="Arial"/>
            </a:endParaRPr>
          </a:p>
        </p:txBody>
      </p:sp>
      <p:sp>
        <p:nvSpPr>
          <p:cNvPr id="94" name=""/>
          <p:cNvSpPr txBox="1"/>
          <p:nvPr/>
        </p:nvSpPr>
        <p:spPr>
          <a:xfrm>
            <a:off x="1763640" y="549360"/>
            <a:ext cx="60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Rul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95" name="" descr=""/>
          <p:cNvPicPr/>
          <p:nvPr/>
        </p:nvPicPr>
        <p:blipFill>
          <a:blip r:embed="rId3"/>
          <a:stretch/>
        </p:blipFill>
        <p:spPr>
          <a:xfrm>
            <a:off x="3421080" y="5292720"/>
            <a:ext cx="2663640" cy="1521000"/>
          </a:xfrm>
          <a:prstGeom prst="rect">
            <a:avLst/>
          </a:prstGeom>
          <a:ln w="0">
            <a:noFill/>
          </a:ln>
        </p:spPr>
      </p:pic>
      <p:sp>
        <p:nvSpPr>
          <p:cNvPr id="3" name="PlaceHolder 2"/>
          <p:cNvSpPr>
            <a:spLocks noGrp="1"/>
          </p:cNvSpPr>
          <p:nvPr>
            <p:ph type="sldNum" idx="3"/>
          </p:nvPr>
        </p:nvSpPr>
        <p:spPr/>
        <p:txBody>
          <a:bodyPr/>
          <a:p>
            <a:fld id="{D688D1E0-DF30-422E-9EFD-B0A575E48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1197000"/>
            <a:ext cx="7931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igher quality audio comes from a quality sound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reo recording has better s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st choice is to store your audio in a digital form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of the video depends on the resolution that you us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5508720" y="5335560"/>
            <a:ext cx="3168720" cy="1522440"/>
          </a:xfrm>
          <a:prstGeom prst="rect">
            <a:avLst/>
          </a:prstGeom>
          <a:ln w="0">
            <a:noFill/>
          </a:ln>
        </p:spPr>
      </p:pic>
      <p:sp>
        <p:nvSpPr>
          <p:cNvPr id="98" name=""/>
          <p:cNvSpPr txBox="1"/>
          <p:nvPr/>
        </p:nvSpPr>
        <p:spPr>
          <a:xfrm>
            <a:off x="1908000" y="404640"/>
            <a:ext cx="5410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rPr>
              <a:t>Audio/Video Rules</a:t>
            </a:r>
            <a:endParaRPr b="1" lang="en-US" sz="1800" spc="1" strike="noStrike">
              <a:ln w="0">
                <a:noFill/>
              </a:ln>
              <a:blipFill rotWithShape="0">
                <a:blip r:embed="rId3"/>
                <a:srcRect/>
                <a:stretch/>
              </a:blipFill>
              <a:effectLst>
                <a:outerShdw dist="40186" dir="1096358"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E27EF740-29CC-4F06-ABC0-2711780AD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04480" y="1711440"/>
            <a:ext cx="7427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do not need electr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re economic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can be added very eas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llow spontaneity.</a:t>
            </a:r>
            <a:endParaRPr b="0" lang="en-US" sz="3200" spc="-1" strike="noStrike">
              <a:solidFill>
                <a:srgbClr val="000000"/>
              </a:solidFill>
              <a:latin typeface="Arial"/>
            </a:endParaRPr>
          </a:p>
        </p:txBody>
      </p:sp>
      <p:sp>
        <p:nvSpPr>
          <p:cNvPr id="100"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Advantages of using a flip char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8D8B5023-CE0F-457F-92CC-6CEF85A70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r flip chart and the stand mat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aw a lot of straight lines you may want to use pads with gr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ut your visual aids on normal paper before you move to the char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right markers. </a:t>
            </a:r>
            <a:endParaRPr b="0" lang="en-US" sz="3200" spc="-1" strike="noStrike">
              <a:solidFill>
                <a:srgbClr val="000000"/>
              </a:solidFill>
              <a:latin typeface="Arial"/>
            </a:endParaRPr>
          </a:p>
        </p:txBody>
      </p:sp>
      <p:sp>
        <p:nvSpPr>
          <p:cNvPr id="102"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927B63E3-458F-4433-9A0C-C78168F10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4920" y="1341000"/>
            <a:ext cx="8373960" cy="504036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nt your text and titles neatly and clearl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 not use all capital letters.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that the flip chart is a visual AID. If it is does not enhance your performance, it could become a hindranc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 con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A587CD76-4A82-41DB-8541-3025F6AF3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48428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e secret for a good chart is to make it simple to communicate</a:t>
            </a:r>
            <a:r>
              <a:rPr b="0" i="1" lang="en-US" sz="2800" spc="-1" strike="noStrike">
                <a:solidFill>
                  <a:srgbClr val="ffff00"/>
                </a:solidFill>
                <a:latin typeface="Arial"/>
              </a:rPr>
              <a:t>.</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king Charts Communicat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mplifying a chart often requires changing the chart form, switching from a line graph to horizontal bar chart, for ex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cause it communic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message more effectively</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06" name="" descr=""/>
          <p:cNvPicPr/>
          <p:nvPr/>
        </p:nvPicPr>
        <p:blipFill>
          <a:blip r:embed="rId1"/>
          <a:stretch/>
        </p:blipFill>
        <p:spPr>
          <a:xfrm>
            <a:off x="6372360" y="4510080"/>
            <a:ext cx="2555640" cy="2303640"/>
          </a:xfrm>
          <a:prstGeom prst="rect">
            <a:avLst/>
          </a:prstGeom>
          <a:ln w="0">
            <a:noFill/>
          </a:ln>
        </p:spPr>
      </p:pic>
      <p:sp>
        <p:nvSpPr>
          <p:cNvPr id="107" name=""/>
          <p:cNvSpPr txBox="1"/>
          <p:nvPr/>
        </p:nvSpPr>
        <p:spPr>
          <a:xfrm>
            <a:off x="2700360" y="333360"/>
            <a:ext cx="370044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Charts</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55522352-474F-4591-B173-B80D9A2F31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114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vey one message per chart. Make the message the heading.</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chart easy to read.</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ccurate. Always start a numerical axis at zero.</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9" name=""/>
          <p:cNvSpPr txBox="1"/>
          <p:nvPr/>
        </p:nvSpPr>
        <p:spPr>
          <a:xfrm>
            <a:off x="1763640" y="476280"/>
            <a:ext cx="5629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40186" dir="1096358" blurRad="0" rotWithShape="0">
                    <a:srgbClr val="000000">
                      <a:alpha val="80000"/>
                    </a:srgbClr>
                  </a:outerShdw>
                </a:effectLst>
                <a:latin typeface="Impact"/>
              </a:rPr>
              <a:t>Guidelines for Quality Charts</a:t>
            </a:r>
            <a:endPar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ea typeface="Impact"/>
            </a:endParaRPr>
          </a:p>
        </p:txBody>
      </p:sp>
      <p:sp>
        <p:nvSpPr>
          <p:cNvPr id="110" name=""/>
          <p:cNvSpPr/>
          <p:nvPr/>
        </p:nvSpPr>
        <p:spPr>
          <a:xfrm>
            <a:off x="6980400" y="551664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9131B5-FCC7-4B24-8F71-E94C6CEFCF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e all unnecessary detai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no more than four colors per visu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vibrant fill patterns, such a contrasting lines, wave patterns, and crisscrosses.</a:t>
            </a:r>
            <a:endParaRPr b="0" lang="en-US" sz="3200" spc="-1" strike="noStrike">
              <a:solidFill>
                <a:srgbClr val="000000"/>
              </a:solidFill>
              <a:latin typeface="Arial"/>
            </a:endParaRPr>
          </a:p>
        </p:txBody>
      </p:sp>
      <p:sp>
        <p:nvSpPr>
          <p:cNvPr id="112" name=""/>
          <p:cNvSpPr/>
          <p:nvPr/>
        </p:nvSpPr>
        <p:spPr>
          <a:xfrm>
            <a:off x="6948360" y="537372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8DD207-0DC3-47F9-919E-00F68385F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focus attention, use color, shading, or images such as arrows to highlight key word or concept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in upper and lower cas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bars and columns wider than the spaces between the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resentation software sensibl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92E3FCA-E495-407C-B2A8-65DCBAC7C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208160"/>
            <a:ext cx="7931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visual aid is anything the audience can see that helps the speaker get his or her message across to the audienc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3203640" y="4437000"/>
            <a:ext cx="2909880" cy="2376720"/>
          </a:xfrm>
          <a:prstGeom prst="rect">
            <a:avLst/>
          </a:prstGeom>
          <a:ln w="0">
            <a:noFill/>
          </a:ln>
        </p:spPr>
      </p:pic>
      <p:sp>
        <p:nvSpPr>
          <p:cNvPr id="56" name=""/>
          <p:cNvSpPr txBox="1"/>
          <p:nvPr/>
        </p:nvSpPr>
        <p:spPr>
          <a:xfrm>
            <a:off x="1547640" y="333360"/>
            <a:ext cx="582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461B1FB-9A04-4E0D-A8E7-C99E3ABA42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835280" y="1484280"/>
            <a:ext cx="4975200" cy="719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Horizontal bar chart</a:t>
            </a:r>
            <a:endParaRPr b="0" lang="en-US" sz="3600" spc="-1" strike="noStrike">
              <a:solidFill>
                <a:srgbClr val="000000"/>
              </a:solidFill>
              <a:latin typeface="Arial"/>
            </a:endParaRPr>
          </a:p>
        </p:txBody>
      </p:sp>
      <p:sp>
        <p:nvSpPr>
          <p:cNvPr id="115" name=""/>
          <p:cNvSpPr txBox="1"/>
          <p:nvPr/>
        </p:nvSpPr>
        <p:spPr>
          <a:xfrm>
            <a:off x="2062080" y="343080"/>
            <a:ext cx="5102280" cy="78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Examples of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16" name="" descr="Bar Chart"/>
          <p:cNvPicPr/>
          <p:nvPr/>
        </p:nvPicPr>
        <p:blipFill>
          <a:blip r:embed="rId3"/>
          <a:stretch/>
        </p:blipFill>
        <p:spPr>
          <a:xfrm>
            <a:off x="826920" y="2205000"/>
            <a:ext cx="7490160" cy="4032360"/>
          </a:xfrm>
          <a:prstGeom prst="rect">
            <a:avLst/>
          </a:prstGeom>
          <a:ln w="9360">
            <a:solidFill>
              <a:srgbClr val="ffffff"/>
            </a:solidFill>
            <a:miter/>
          </a:ln>
        </p:spPr>
      </p:pic>
      <p:sp>
        <p:nvSpPr>
          <p:cNvPr id="3" name="PlaceHolder 2"/>
          <p:cNvSpPr>
            <a:spLocks noGrp="1"/>
          </p:cNvSpPr>
          <p:nvPr>
            <p:ph type="sldNum" idx="3"/>
          </p:nvPr>
        </p:nvSpPr>
        <p:spPr/>
        <p:txBody>
          <a:bodyPr/>
          <a:p>
            <a:fld id="{45395DC6-B15E-40FA-949C-A38F1FAACA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e Chart</a:t>
            </a:r>
            <a:endParaRPr b="0" lang="en-US" sz="4400" spc="-1" strike="noStrike">
              <a:solidFill>
                <a:srgbClr val="000000"/>
              </a:solidFill>
              <a:latin typeface="Arial"/>
            </a:endParaRPr>
          </a:p>
        </p:txBody>
      </p:sp>
      <p:pic>
        <p:nvPicPr>
          <p:cNvPr id="118" name="" descr="Line Chart"/>
          <p:cNvPicPr/>
          <p:nvPr/>
        </p:nvPicPr>
        <p:blipFill>
          <a:blip r:embed="rId1"/>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18A5227F-7137-4B15-A4C4-D6C5770E5D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ertical chart</a:t>
            </a:r>
            <a:endParaRPr b="0" lang="en-US" sz="4000" spc="-1" strike="noStrike">
              <a:solidFill>
                <a:srgbClr val="000000"/>
              </a:solidFill>
              <a:latin typeface="Arial"/>
            </a:endParaRPr>
          </a:p>
        </p:txBody>
      </p:sp>
      <p:pic>
        <p:nvPicPr>
          <p:cNvPr id="120" name="" descr="Column Chart"/>
          <p:cNvPicPr/>
          <p:nvPr/>
        </p:nvPicPr>
        <p:blipFill>
          <a:blip r:embed="rId1"/>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F40C09F3-76A1-438C-9166-95826749E7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e chart</a:t>
            </a:r>
            <a:endParaRPr b="0" lang="en-US" sz="4000" spc="-1" strike="noStrike">
              <a:solidFill>
                <a:srgbClr val="000000"/>
              </a:solidFill>
              <a:latin typeface="Arial"/>
            </a:endParaRPr>
          </a:p>
        </p:txBody>
      </p:sp>
      <p:pic>
        <p:nvPicPr>
          <p:cNvPr id="122" name="" descr="Pie Chart"/>
          <p:cNvPicPr/>
          <p:nvPr/>
        </p:nvPicPr>
        <p:blipFill>
          <a:blip r:embed="rId1"/>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F9D38958-AFDF-471A-965B-14571A6A62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txBox="1"/>
          <p:nvPr/>
        </p:nvSpPr>
        <p:spPr>
          <a:xfrm>
            <a:off x="2246400" y="476280"/>
            <a:ext cx="52052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harts – Color Palett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124" name=""/>
          <p:cNvSpPr/>
          <p:nvPr/>
        </p:nvSpPr>
        <p:spPr>
          <a:xfrm>
            <a:off x="45000" y="1754640"/>
            <a:ext cx="229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Rose and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13320" y="3067560"/>
            <a:ext cx="185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Moon Lake</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62280" y="4275720"/>
            <a:ext cx="271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Autumn Evening</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28440" y="5355000"/>
            <a:ext cx="219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Garden Party</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736DB08-9BCB-4D58-97CE-55917CADBA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7931160" cy="452592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your audience see and read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at you have written</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the audience time to copy what you have written</a:t>
            </a:r>
            <a:r>
              <a:rPr b="0" lang="en-US" sz="3200" spc="-1" strike="noStrike">
                <a:solidFill>
                  <a:srgbClr val="ffffff"/>
                </a:solidFill>
                <a:latin typeface="Arial"/>
              </a:rPr>
              <a:t>.</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 your board work</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34" name="" descr=""/>
          <p:cNvPicPr/>
          <p:nvPr/>
        </p:nvPicPr>
        <p:blipFill>
          <a:blip r:embed="rId1"/>
          <a:stretch/>
        </p:blipFill>
        <p:spPr>
          <a:xfrm>
            <a:off x="7020000" y="4508640"/>
            <a:ext cx="1954080" cy="2003400"/>
          </a:xfrm>
          <a:prstGeom prst="rect">
            <a:avLst/>
          </a:prstGeom>
          <a:ln w="0">
            <a:noFill/>
          </a:ln>
        </p:spPr>
      </p:pic>
      <p:sp>
        <p:nvSpPr>
          <p:cNvPr id="135" name=""/>
          <p:cNvSpPr txBox="1"/>
          <p:nvPr/>
        </p:nvSpPr>
        <p:spPr>
          <a:xfrm>
            <a:off x="1187280" y="404640"/>
            <a:ext cx="678204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the Chalkboard/White board</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424FA897-EFAD-45A1-9670-3B9052939F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concept of an object lesson is very simple; to visually communicate a single thought or idea in such a way that it is remembered</a:t>
            </a:r>
            <a:r>
              <a:rPr b="0" i="1" lang="en-US" sz="3200" spc="-1" strike="noStrike">
                <a:solidFill>
                  <a:srgbClr val="ffff00"/>
                </a:solidFill>
                <a:latin typeface="Arial"/>
              </a:rPr>
              <a:t>.</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404640"/>
            <a:ext cx="8925120" cy="890640"/>
          </a:xfrm>
          <a:prstGeom prst="rect">
            <a:avLst/>
          </a:prstGeom>
          <a:ln w="0">
            <a:noFill/>
          </a:ln>
        </p:spPr>
      </p:pic>
      <p:sp>
        <p:nvSpPr>
          <p:cNvPr id="138" name=""/>
          <p:cNvSpPr txBox="1"/>
          <p:nvPr/>
        </p:nvSpPr>
        <p:spPr>
          <a:xfrm>
            <a:off x="2647800" y="620640"/>
            <a:ext cx="38484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rPr>
              <a:t>Object Lessons</a:t>
            </a:r>
            <a:endPar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755EDEB3-EEF2-441F-A5C9-5D8EF0EBA6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26720"/>
            <a:ext cx="7067520" cy="4526280"/>
          </a:xfrm>
          <a:prstGeom prst="rect">
            <a:avLst/>
          </a:prstGeom>
          <a:noFill/>
          <a:ln w="0">
            <a:noFill/>
          </a:ln>
        </p:spPr>
        <p:txBody>
          <a:bodyPr lIns="90000" rIns="90000" tIns="46800" bIns="46800" anchor="t">
            <a:normAutofit/>
          </a:bodyPr>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preach</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plain language</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e the object first</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ck to the one thought/idea/concept only.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everyday items to communicate everyday truths.</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the object as big and visible as possible.</a:t>
            </a:r>
            <a:endParaRPr b="0" lang="en-US" sz="2000" spc="-1" strike="noStrike">
              <a:solidFill>
                <a:srgbClr val="000000"/>
              </a:solidFill>
              <a:latin typeface="Arial"/>
            </a:endParaRPr>
          </a:p>
          <a:p>
            <a:pPr marL="343080" indent="0">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txBox="1"/>
          <p:nvPr/>
        </p:nvSpPr>
        <p:spPr>
          <a:xfrm>
            <a:off x="2484360" y="549360"/>
            <a:ext cx="4086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41" name="" descr=""/>
          <p:cNvPicPr/>
          <p:nvPr/>
        </p:nvPicPr>
        <p:blipFill>
          <a:blip r:embed="rId3"/>
          <a:stretch/>
        </p:blipFill>
        <p:spPr>
          <a:xfrm>
            <a:off x="6607080" y="1844640"/>
            <a:ext cx="2536920" cy="2952720"/>
          </a:xfrm>
          <a:prstGeom prst="rect">
            <a:avLst/>
          </a:prstGeom>
          <a:ln w="0">
            <a:noFill/>
          </a:ln>
        </p:spPr>
      </p:pic>
      <p:sp>
        <p:nvSpPr>
          <p:cNvPr id="3" name="PlaceHolder 2"/>
          <p:cNvSpPr>
            <a:spLocks noGrp="1"/>
          </p:cNvSpPr>
          <p:nvPr>
            <p:ph type="sldNum" idx="3"/>
          </p:nvPr>
        </p:nvSpPr>
        <p:spPr/>
        <p:txBody>
          <a:bodyPr/>
          <a:p>
            <a:fld id="{CBCAA02D-164E-4432-B756-0885CE5702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overall theme/message of the entire less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points you want to get across? (Three points to get across as the presentation is being ma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st communicate each single point?</a:t>
            </a:r>
            <a:endParaRPr b="0" lang="en-US" sz="3200" spc="-1" strike="noStrike">
              <a:solidFill>
                <a:srgbClr val="000000"/>
              </a:solidFill>
              <a:latin typeface="Arial"/>
            </a:endParaRPr>
          </a:p>
        </p:txBody>
      </p:sp>
      <p:sp>
        <p:nvSpPr>
          <p:cNvPr id="143" name=""/>
          <p:cNvSpPr txBox="1"/>
          <p:nvPr/>
        </p:nvSpPr>
        <p:spPr>
          <a:xfrm>
            <a:off x="971640" y="476280"/>
            <a:ext cx="7345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rPr>
              <a:t>Simple steps to develop Object Lessons:</a:t>
            </a:r>
            <a:endPar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CA8C0026-7F17-47CC-8A45-37C6646ECB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esus was quick to point out things in nature or his surroundings to illustrate spiritual truths. An object can be a bridge to understanding.</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45" name="" descr=""/>
          <p:cNvPicPr/>
          <p:nvPr/>
        </p:nvPicPr>
        <p:blipFill>
          <a:blip r:embed="rId1"/>
          <a:stretch/>
        </p:blipFill>
        <p:spPr>
          <a:xfrm>
            <a:off x="324000" y="3500280"/>
            <a:ext cx="2927160" cy="2997360"/>
          </a:xfrm>
          <a:prstGeom prst="rect">
            <a:avLst/>
          </a:prstGeom>
          <a:ln w="0">
            <a:noFill/>
          </a:ln>
        </p:spPr>
      </p:pic>
      <p:sp>
        <p:nvSpPr>
          <p:cNvPr id="3" name="PlaceHolder 2"/>
          <p:cNvSpPr>
            <a:spLocks noGrp="1"/>
          </p:cNvSpPr>
          <p:nvPr>
            <p:ph type="sldNum" idx="3"/>
          </p:nvPr>
        </p:nvSpPr>
        <p:spPr/>
        <p:txBody>
          <a:bodyPr/>
          <a:p>
            <a:fld id="{570E4D99-3783-47A0-A841-0CEF97D8F7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404640"/>
            <a:ext cx="8642160" cy="579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udience’s attention is focused more complete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ceiver retains the message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make you more persuas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47640" y="406440"/>
            <a:ext cx="58262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F61F9F53-B983-4552-B332-F741F9982C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Every time you have to speak you should analyze your listeners and then decide how to present your ideas and what kind of material is more appropriate for the occasion.</a:t>
            </a:r>
            <a:endParaRPr b="0" lang="en-US" sz="3200" spc="-1" strike="noStrike">
              <a:solidFill>
                <a:srgbClr val="000000"/>
              </a:solidFill>
              <a:latin typeface="Arial"/>
            </a:endParaRPr>
          </a:p>
        </p:txBody>
      </p:sp>
      <p:pic>
        <p:nvPicPr>
          <p:cNvPr id="147" name="" descr=""/>
          <p:cNvPicPr/>
          <p:nvPr/>
        </p:nvPicPr>
        <p:blipFill>
          <a:blip r:embed="rId1"/>
          <a:stretch/>
        </p:blipFill>
        <p:spPr>
          <a:xfrm>
            <a:off x="6921360" y="2565360"/>
            <a:ext cx="1898640" cy="3168720"/>
          </a:xfrm>
          <a:prstGeom prst="rect">
            <a:avLst/>
          </a:prstGeom>
          <a:ln w="0">
            <a:noFill/>
          </a:ln>
        </p:spPr>
      </p:pic>
      <p:sp>
        <p:nvSpPr>
          <p:cNvPr id="148" name=""/>
          <p:cNvSpPr txBox="1"/>
          <p:nvPr/>
        </p:nvSpPr>
        <p:spPr>
          <a:xfrm>
            <a:off x="1763640" y="549360"/>
            <a:ext cx="32115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he Audience</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69AF9EAD-B702-4520-9A5B-DB814A5B6E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549360"/>
            <a:ext cx="821844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This analysis might include considerations related to:</a:t>
            </a:r>
            <a:endParaRPr b="0" lang="en-US" sz="3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g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ital statu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graphic lo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p membershi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eer</a:t>
            </a:r>
            <a:endParaRPr b="0" lang="en-US" sz="3200" spc="-1" strike="noStrike">
              <a:solidFill>
                <a:srgbClr val="000000"/>
              </a:solidFill>
              <a:latin typeface="Arial"/>
            </a:endParaRPr>
          </a:p>
        </p:txBody>
      </p:sp>
      <p:pic>
        <p:nvPicPr>
          <p:cNvPr id="150" name="" descr=""/>
          <p:cNvPicPr/>
          <p:nvPr/>
        </p:nvPicPr>
        <p:blipFill>
          <a:blip r:embed="rId1"/>
          <a:stretch/>
        </p:blipFill>
        <p:spPr>
          <a:xfrm>
            <a:off x="6227640" y="2852640"/>
            <a:ext cx="1440000" cy="3313080"/>
          </a:xfrm>
          <a:prstGeom prst="rect">
            <a:avLst/>
          </a:prstGeom>
          <a:ln w="0">
            <a:noFill/>
          </a:ln>
        </p:spPr>
      </p:pic>
      <p:sp>
        <p:nvSpPr>
          <p:cNvPr id="3" name="PlaceHolder 2"/>
          <p:cNvSpPr>
            <a:spLocks noGrp="1"/>
          </p:cNvSpPr>
          <p:nvPr>
            <p:ph type="sldNum" idx="3"/>
          </p:nvPr>
        </p:nvSpPr>
        <p:spPr/>
        <p:txBody>
          <a:bodyPr/>
          <a:p>
            <a:fld id="{3530F7AF-A196-4E7A-B416-F55C6D798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your purpose. Pra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your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you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ze your audience.</a:t>
            </a:r>
            <a:endParaRPr b="0" lang="en-US" sz="3200" spc="-1" strike="noStrike">
              <a:solidFill>
                <a:srgbClr val="000000"/>
              </a:solidFill>
              <a:latin typeface="Arial"/>
            </a:endParaRPr>
          </a:p>
        </p:txBody>
      </p:sp>
      <p:sp>
        <p:nvSpPr>
          <p:cNvPr id="152" name=""/>
          <p:cNvSpPr txBox="1"/>
          <p:nvPr/>
        </p:nvSpPr>
        <p:spPr>
          <a:xfrm>
            <a:off x="2657520" y="477720"/>
            <a:ext cx="4075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NCLUSION</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53" name="" descr=""/>
          <p:cNvPicPr/>
          <p:nvPr/>
        </p:nvPicPr>
        <p:blipFill>
          <a:blip r:embed="rId3"/>
          <a:stretch/>
        </p:blipFill>
        <p:spPr>
          <a:xfrm>
            <a:off x="7020000" y="2997360"/>
            <a:ext cx="1458720" cy="3178080"/>
          </a:xfrm>
          <a:prstGeom prst="rect">
            <a:avLst/>
          </a:prstGeom>
          <a:ln w="0">
            <a:noFill/>
          </a:ln>
        </p:spPr>
      </p:pic>
      <p:sp>
        <p:nvSpPr>
          <p:cNvPr id="3" name="PlaceHolder 2"/>
          <p:cNvSpPr>
            <a:spLocks noGrp="1"/>
          </p:cNvSpPr>
          <p:nvPr>
            <p:ph type="sldNum" idx="3"/>
          </p:nvPr>
        </p:nvSpPr>
        <p:spPr/>
        <p:txBody>
          <a:bodyPr/>
          <a:p>
            <a:fld id="{12FFFE9D-6687-4CDF-A8EE-6E411C277E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91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udio-visual ai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the material and rehe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iver your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audi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eedback.</a:t>
            </a:r>
            <a:endParaRPr b="0" lang="en-US" sz="3200" spc="-1" strike="noStrike">
              <a:solidFill>
                <a:srgbClr val="000000"/>
              </a:solidFill>
              <a:latin typeface="Arial"/>
            </a:endParaRPr>
          </a:p>
        </p:txBody>
      </p:sp>
      <p:pic>
        <p:nvPicPr>
          <p:cNvPr id="155" name="" descr=""/>
          <p:cNvPicPr/>
          <p:nvPr/>
        </p:nvPicPr>
        <p:blipFill>
          <a:blip r:embed="rId1"/>
          <a:stretch/>
        </p:blipFill>
        <p:spPr>
          <a:xfrm>
            <a:off x="5796000" y="3789360"/>
            <a:ext cx="3276720" cy="3016080"/>
          </a:xfrm>
          <a:prstGeom prst="rect">
            <a:avLst/>
          </a:prstGeom>
          <a:ln w="0">
            <a:noFill/>
          </a:ln>
        </p:spPr>
      </p:pic>
      <p:sp>
        <p:nvSpPr>
          <p:cNvPr id="3" name="PlaceHolder 2"/>
          <p:cNvSpPr>
            <a:spLocks noGrp="1"/>
          </p:cNvSpPr>
          <p:nvPr>
            <p:ph type="sldNum" idx="3"/>
          </p:nvPr>
        </p:nvSpPr>
        <p:spPr/>
        <p:txBody>
          <a:bodyPr/>
          <a:p>
            <a:fld id="{EE40B8E8-49FE-4616-89FC-57DC60734DB8}"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771280" y="847800"/>
            <a:ext cx="61930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essage is transmitted more efficiently.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have come to expect visuals.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help establish organization for presentation.</a:t>
            </a:r>
            <a:endParaRPr b="0" lang="en-US" sz="3200" spc="-1" strike="noStrike">
              <a:solidFill>
                <a:srgbClr val="000000"/>
              </a:solidFill>
              <a:latin typeface="Arial"/>
            </a:endParaRPr>
          </a:p>
        </p:txBody>
      </p:sp>
      <p:pic>
        <p:nvPicPr>
          <p:cNvPr id="60" name="" descr=""/>
          <p:cNvPicPr/>
          <p:nvPr/>
        </p:nvPicPr>
        <p:blipFill>
          <a:blip r:embed="rId1"/>
          <a:stretch/>
        </p:blipFill>
        <p:spPr>
          <a:xfrm>
            <a:off x="179280" y="1782720"/>
            <a:ext cx="2959200" cy="4525920"/>
          </a:xfrm>
          <a:prstGeom prst="rect">
            <a:avLst/>
          </a:prstGeom>
          <a:ln w="0">
            <a:noFill/>
          </a:ln>
        </p:spPr>
      </p:pic>
      <p:sp>
        <p:nvSpPr>
          <p:cNvPr id="3" name="PlaceHolder 2"/>
          <p:cNvSpPr>
            <a:spLocks noGrp="1"/>
          </p:cNvSpPr>
          <p:nvPr>
            <p:ph type="sldNum" idx="3"/>
          </p:nvPr>
        </p:nvSpPr>
        <p:spPr/>
        <p:txBody>
          <a:bodyPr/>
          <a:p>
            <a:fld id="{8DE55389-8B06-4CE6-9C05-747DAF7DFE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
          <p:cNvSpPr/>
          <p:nvPr/>
        </p:nvSpPr>
        <p:spPr>
          <a:xfrm>
            <a:off x="0" y="5373720"/>
            <a:ext cx="9144000" cy="71280"/>
          </a:xfrm>
          <a:prstGeom prst="rect">
            <a:avLst/>
          </a:prstGeom>
          <a:solidFill>
            <a:srgbClr val="99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250920" y="731880"/>
            <a:ext cx="8146800" cy="5433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add variety and emphasis to your pres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r message is presented both orally and visually.</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s help you to be concis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63" name="" descr=""/>
          <p:cNvPicPr/>
          <p:nvPr/>
        </p:nvPicPr>
        <p:blipFill>
          <a:blip r:embed="rId1"/>
          <a:stretch/>
        </p:blipFill>
        <p:spPr>
          <a:xfrm>
            <a:off x="7020000" y="4005360"/>
            <a:ext cx="1952640" cy="2076480"/>
          </a:xfrm>
          <a:prstGeom prst="rect">
            <a:avLst/>
          </a:prstGeom>
          <a:ln w="0">
            <a:noFill/>
          </a:ln>
        </p:spPr>
      </p:pic>
      <p:sp>
        <p:nvSpPr>
          <p:cNvPr id="3" name="PlaceHolder 2"/>
          <p:cNvSpPr>
            <a:spLocks noGrp="1"/>
          </p:cNvSpPr>
          <p:nvPr>
            <p:ph type="sldNum" idx="3"/>
          </p:nvPr>
        </p:nvSpPr>
        <p:spPr/>
        <p:txBody>
          <a:bodyPr/>
          <a:p>
            <a:fld id="{C61C615A-5C9F-4F23-9FD1-AE1EDD34A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495080"/>
            <a:ext cx="770580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tatic</a:t>
            </a:r>
            <a:r>
              <a:rPr b="1" lang="en-US" sz="2800" spc="-1" strike="noStrike">
                <a:solidFill>
                  <a:srgbClr val="ffffff"/>
                </a:solidFill>
                <a:latin typeface="Arial"/>
              </a:rPr>
              <a:t>:  D</a:t>
            </a:r>
            <a:r>
              <a:rPr b="1" lang="en-US" sz="3200" spc="-1" strike="noStrike">
                <a:solidFill>
                  <a:srgbClr val="ffffff"/>
                </a:solidFill>
                <a:latin typeface="Arial"/>
              </a:rPr>
              <a:t>o not change during th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presentatio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ter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ite board</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ip chart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animated computer graphics</a:t>
            </a:r>
            <a:endParaRPr b="0" lang="en-US" sz="3200" spc="-1" strike="noStrike">
              <a:solidFill>
                <a:srgbClr val="000000"/>
              </a:solidFill>
              <a:latin typeface="Arial"/>
            </a:endParaRPr>
          </a:p>
        </p:txBody>
      </p:sp>
      <p:pic>
        <p:nvPicPr>
          <p:cNvPr id="65" name="" descr=""/>
          <p:cNvPicPr/>
          <p:nvPr/>
        </p:nvPicPr>
        <p:blipFill>
          <a:blip r:embed="rId1"/>
          <a:stretch/>
        </p:blipFill>
        <p:spPr>
          <a:xfrm>
            <a:off x="6372360" y="3068640"/>
            <a:ext cx="2504880" cy="2647800"/>
          </a:xfrm>
          <a:prstGeom prst="rect">
            <a:avLst/>
          </a:prstGeom>
          <a:ln w="0">
            <a:noFill/>
          </a:ln>
        </p:spPr>
      </p:pic>
      <p:sp>
        <p:nvSpPr>
          <p:cNvPr id="66" name=""/>
          <p:cNvSpPr txBox="1"/>
          <p:nvPr/>
        </p:nvSpPr>
        <p:spPr>
          <a:xfrm>
            <a:off x="2052720" y="333360"/>
            <a:ext cx="5040360" cy="10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ypes of</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rPr>
              <a:t>Audio-Visuals</a:t>
            </a:r>
            <a:endParaRPr b="0" lang="en-US" sz="1800" spc="1" strike="noStrike">
              <a:ln w="0">
                <a:noFill/>
              </a:ln>
              <a:blipFill rotWithShape="0">
                <a:blip r:embed="rId5"/>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49E5D445-CDC2-469C-928A-458B3C7677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764640"/>
            <a:ext cx="7859880" cy="4526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ynamic</a:t>
            </a:r>
            <a:r>
              <a:rPr b="1" lang="en-US" sz="3200" spc="-1" strike="noStrike">
                <a:solidFill>
                  <a:srgbClr val="ffffff"/>
                </a:solidFill>
                <a:latin typeface="Arial"/>
              </a:rPr>
              <a:t>: change in some way during the presentation.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deo</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dio recording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imated computer graphic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werPoint</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 lessons</a:t>
            </a:r>
            <a:endParaRPr b="0" lang="en-US" sz="3200" spc="-1" strike="noStrike">
              <a:solidFill>
                <a:srgbClr val="000000"/>
              </a:solidFill>
              <a:latin typeface="Arial"/>
            </a:endParaRPr>
          </a:p>
        </p:txBody>
      </p:sp>
      <p:pic>
        <p:nvPicPr>
          <p:cNvPr id="68" name="" descr=""/>
          <p:cNvPicPr/>
          <p:nvPr/>
        </p:nvPicPr>
        <p:blipFill>
          <a:blip r:embed="rId1"/>
          <a:stretch/>
        </p:blipFill>
        <p:spPr>
          <a:xfrm>
            <a:off x="6156360" y="1989000"/>
            <a:ext cx="2975040" cy="1827360"/>
          </a:xfrm>
          <a:prstGeom prst="rect">
            <a:avLst/>
          </a:prstGeom>
          <a:ln w="0">
            <a:noFill/>
          </a:ln>
        </p:spPr>
      </p:pic>
      <p:sp>
        <p:nvSpPr>
          <p:cNvPr id="3" name="PlaceHolder 2"/>
          <p:cNvSpPr>
            <a:spLocks noGrp="1"/>
          </p:cNvSpPr>
          <p:nvPr>
            <p:ph type="sldNum" idx="3"/>
          </p:nvPr>
        </p:nvSpPr>
        <p:spPr/>
        <p:txBody>
          <a:bodyPr/>
          <a:p>
            <a:fld id="{FBA894EC-9E39-4F73-976C-40764C7480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6059520" cy="6093000"/>
          </a:xfrm>
          <a:prstGeom prst="rect">
            <a:avLst/>
          </a:prstGeom>
          <a:solidFill>
            <a:srgbClr val="564eee">
              <a:alpha val="32000"/>
            </a:srgbClr>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r choice of audio-visual aids should depend on the time you have available, the speaking environment, and the time you will have to create and practice with them.  Select a type th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 can master.</a:t>
            </a:r>
            <a:r>
              <a:rPr b="0" lang="pt-BR" sz="3200" spc="-1" strike="noStrike">
                <a:solidFill>
                  <a:srgbClr val="ffff00"/>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5969160" y="4024440"/>
            <a:ext cx="2923920" cy="2500200"/>
          </a:xfrm>
          <a:prstGeom prst="rect">
            <a:avLst/>
          </a:prstGeom>
          <a:ln w="0">
            <a:noFill/>
          </a:ln>
        </p:spPr>
      </p:pic>
      <p:sp>
        <p:nvSpPr>
          <p:cNvPr id="3" name="PlaceHolder 2"/>
          <p:cNvSpPr>
            <a:spLocks noGrp="1"/>
          </p:cNvSpPr>
          <p:nvPr>
            <p:ph type="sldNum" idx="3"/>
          </p:nvPr>
        </p:nvSpPr>
        <p:spPr/>
        <p:txBody>
          <a:bodyPr/>
          <a:p>
            <a:fld id="{9A5F1B93-8F7B-458A-AA18-F2CEA4CA4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Heather-Dawn Small</cp:lastModifiedBy>
  <dcterms:modified xsi:type="dcterms:W3CDTF">2004-07-01T14:37:19Z</dcterms:modified>
  <cp:revision>48</cp:revision>
  <dc:subject/>
  <dc:title>Slide 1</dc:title>
</cp:coreProperties>
</file>